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3B8C8-146A-4EEA-8423-4FFD28CC6B0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lesson accompanies the Frack files pdf – a 17-page document of authentic reading about fracking. This lesson will guide learners through the authentic material, which they can then read in detail afterwards. The lesson will take 2 – 3 h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3478C-0DEC-4B39-A579-7DCA4126764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ould do a jigsaw-reading and read about one country each, then share the in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BD4CD-170E-48F6-8AAC-CB73F5BB69E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Key: 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1D2DB-0570-4D4E-A586-719703BC411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Key:  1/c   2/e  3/a   4/f   5/b   6/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F71B4-9440-4A53-927C-31911002667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FF2FB-84C3-45DE-AA67-354DB30DEA7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Key: 1/d   2/b   3/e   4/a   5/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EA23B-0987-4E08-B1FD-9DEEF85F21A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5E5A-4ED6-4CE2-903B-02C8A2AB3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B49E-7D4F-438F-9944-1AD01BBCA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CBFC-C6BE-439C-A41A-C7B68A20B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2C67-7BDA-4461-BED4-C4B19F3BD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212C-33ED-44D7-8A69-55F2AF715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46D7-5926-40C4-B3E8-C59203522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7010-EE8E-4F09-A161-6080D2B89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BCA2-0F51-4DA9-A7DF-A8FAEFEEB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63AB-96BD-4B6D-B8D9-D3567132C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9EA2-A4FD-40C5-8752-5A3EFCCF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39D0-256A-46A3-A9B9-9A38BC603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C4D2-F170-4358-AE6D-D28499096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E22E7-3A31-4E30-BB3B-CA75EB0D54E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Will_fracking_realign_the_world%3F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creativecommons.org/licenses/by/3.0/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03640" y="2491920"/>
            <a:ext cx="525456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Calibri"/>
              </a:rPr>
              <a:t>Fracking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23640" y="4941360"/>
            <a:ext cx="856908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New Internationalist Easier English Ready Lesson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Upper Intermedi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98989"/>
                </a:solidFill>
                <a:latin typeface="Calibri"/>
              </a:rPr>
              <a:t>To use with the 17-page authentic </a:t>
            </a:r>
            <a:r>
              <a:rPr b="1" lang="en-US" sz="2200" spc="-1" strike="noStrike" u="sng">
                <a:solidFill>
                  <a:srgbClr val="898989"/>
                </a:solidFill>
                <a:uFillTx/>
                <a:latin typeface="Calibri"/>
              </a:rPr>
              <a:t>“the fracking files” </a:t>
            </a:r>
            <a:r>
              <a:rPr b="1" lang="en-US" sz="2200" spc="-1" strike="noStrike">
                <a:solidFill>
                  <a:srgbClr val="898989"/>
                </a:solidFill>
                <a:latin typeface="Calibri"/>
              </a:rPr>
              <a:t>pdf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98280" y="27000"/>
            <a:ext cx="2762280" cy="3906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4140360" y="260280"/>
            <a:ext cx="48956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What other problems are ther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kim through all 17 pages and list all the other problems linked to frack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g. all the dangerous chemicals us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030a0"/>
                </a:solidFill>
                <a:latin typeface="Calibri"/>
              </a:rPr>
              <a:t>Discuss and comp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83628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7030a0"/>
                </a:solidFill>
                <a:latin typeface="Calibri"/>
              </a:rPr>
              <a:t>What can we do about it? - </a:t>
            </a:r>
            <a:r>
              <a:rPr b="1" lang="en-GB" sz="3200" spc="-1" strike="noStrike">
                <a:solidFill>
                  <a:srgbClr val="7030a0"/>
                </a:solidFill>
                <a:latin typeface="Calibri"/>
              </a:rPr>
              <a:t>what are they doing in these countri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95280" y="191592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alibri"/>
              </a:rPr>
              <a:t>Argentina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GB" sz="7200" spc="-1" strike="noStrike">
                <a:solidFill>
                  <a:srgbClr val="000000"/>
                </a:solidFill>
                <a:latin typeface="Calibri"/>
              </a:rPr>
              <a:t>Australia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GB" sz="7200" spc="-1" strike="noStrike">
                <a:solidFill>
                  <a:srgbClr val="000000"/>
                </a:solidFill>
                <a:latin typeface="Calibri"/>
              </a:rPr>
              <a:t>South Africa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Skim through </a:t>
            </a:r>
            <a:r>
              <a:rPr b="1" lang="en-GB" sz="3600" spc="-1" strike="noStrike">
                <a:solidFill>
                  <a:srgbClr val="ff0000"/>
                </a:solidFill>
                <a:latin typeface="Calibri"/>
              </a:rPr>
              <a:t>pages 15 – 17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o find ou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7030a0"/>
                </a:solidFill>
                <a:latin typeface="Calibri"/>
              </a:rPr>
              <a:t>Homework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94920" y="1267920"/>
            <a:ext cx="8280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ook at </a:t>
            </a: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page 17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o find out more about th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rote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egal challenges an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ampaigns   against frac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d for more reading and lin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d read the Easier English article about the politics of fracking a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eewiki.newint.org/index.php/Will_fracking_realign_the_world%3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his lesson will help you understand (through reading and speaking)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what 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whe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the     how         of   fracking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wher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wh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24000" y="620280"/>
            <a:ext cx="83628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..and the reasons why fracking is a bad ide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……</a:t>
            </a: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.and what we can do about i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4994280" y="1474920"/>
            <a:ext cx="2398680" cy="33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Fracking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” i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23640" y="1412640"/>
            <a:ext cx="8569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horizontal high-volume slickwater hydraulic fracturing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a relatively new way of getting oil and gas from undergroun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a solution to all the world’s energy proble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a huge threat to the environment world-w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all of the abo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7030a0"/>
                </a:solidFill>
                <a:latin typeface="Calibri"/>
              </a:rPr>
              <a:t>When?</a:t>
            </a:r>
            <a:r>
              <a:rPr b="1" lang="en-GB" sz="49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atch these actions with the dates, then look at 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pages 2 &amp; 3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o check</a:t>
            </a:r>
            <a:br>
              <a:rPr sz="49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50920" y="1600200"/>
            <a:ext cx="2017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1949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199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199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200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201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201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268000" y="1599840"/>
            <a:ext cx="66963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lickwater fracturing develo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60% of all new oil and gas wells use frac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arly form of vertical fracturing in Tex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racking produces around 14% of all world’s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irst horizontal frac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racking begins in Cana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7030a0"/>
                </a:solidFill>
                <a:latin typeface="Calibri"/>
              </a:rPr>
              <a:t>How?</a:t>
            </a:r>
            <a:r>
              <a:rPr b="1" lang="en-GB" sz="49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en-GB" sz="2900" spc="-1" strike="noStrike">
                <a:solidFill>
                  <a:srgbClr val="002060"/>
                </a:solidFill>
                <a:latin typeface="Calibri"/>
              </a:rPr>
              <a:t>guess which options are correct, then                       </a:t>
            </a:r>
            <a:r>
              <a:rPr b="1" lang="en-GB" sz="2900" spc="-1" strike="noStrike">
                <a:solidFill>
                  <a:srgbClr val="7030a0"/>
                </a:solidFill>
                <a:latin typeface="Calibri"/>
              </a:rPr>
              <a:t>check with diagram on page 4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920" y="1600200"/>
            <a:ext cx="86421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The drill makes a hole of </a:t>
            </a:r>
            <a:r>
              <a:rPr b="1" lang="en-GB" sz="3000" spc="-1" strike="noStrike" u="sng">
                <a:solidFill>
                  <a:srgbClr val="ff0000"/>
                </a:solidFill>
                <a:uFillTx/>
                <a:latin typeface="Calibri"/>
              </a:rPr>
              <a:t>2 / 20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km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2.   The top parts of the drilled hole are covered in </a:t>
            </a:r>
            <a:r>
              <a:rPr b="1" lang="en-GB" sz="3000" spc="-1" strike="noStrike" u="sng">
                <a:solidFill>
                  <a:srgbClr val="ff0000"/>
                </a:solidFill>
                <a:uFillTx/>
                <a:latin typeface="Calibri"/>
              </a:rPr>
              <a:t>plastic and wood / cement and steel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3.   </a:t>
            </a:r>
            <a:r>
              <a:rPr b="1" lang="en-GB" sz="3000" spc="-1" strike="noStrike" u="sng">
                <a:solidFill>
                  <a:srgbClr val="ff0000"/>
                </a:solidFill>
                <a:uFillTx/>
                <a:latin typeface="Calibri"/>
              </a:rPr>
              <a:t>Millions / thousands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of litres of frack fluid (water and chemicals) are forced down the drilled hol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4.   The frack fluid is pumped back up for several </a:t>
            </a:r>
            <a:r>
              <a:rPr b="1" lang="en-GB" sz="3000" spc="-1" strike="noStrike" u="sng">
                <a:solidFill>
                  <a:srgbClr val="ff0000"/>
                </a:solidFill>
                <a:uFillTx/>
                <a:latin typeface="Calibri"/>
              </a:rPr>
              <a:t>days  / hours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to open the hole and allow the gas and oil to flow up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5.  Over </a:t>
            </a:r>
            <a:r>
              <a:rPr b="1" lang="en-GB" sz="3000" spc="-1" strike="noStrike" u="sng">
                <a:solidFill>
                  <a:srgbClr val="ff0000"/>
                </a:solidFill>
                <a:uFillTx/>
                <a:latin typeface="Calibri"/>
              </a:rPr>
              <a:t>60 / 600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secret chemicals are used in the U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7030a0"/>
                </a:solidFill>
                <a:latin typeface="Calibri"/>
              </a:rPr>
              <a:t>Where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24000" y="1341360"/>
            <a:ext cx="84960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ich countries in the world extract gas and oil by fracking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heck on the map (page 5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d the table (page 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New South Wales, Australia. (Lock the Gate Alli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under a </a:t>
            </a:r>
            <a:r>
              <a:rPr b="0" lang="en-GB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Creative Commons Licence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2"/>
          <a:stretch/>
        </p:blipFill>
        <p:spPr>
          <a:xfrm>
            <a:off x="4838760" y="3763800"/>
            <a:ext cx="4232160" cy="28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7030a0"/>
                </a:solidFill>
                <a:latin typeface="Calibri"/>
              </a:rPr>
              <a:t>Why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95280" y="1341000"/>
            <a:ext cx="82915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iscuss - what are the main reasons for fracking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creates job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nergy companies want to make mon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raditional gas and oil extraction is coming to an e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re is a lot of gas and oil underground that we can get to 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ecause our lifestyles need so much ener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7030a0"/>
                </a:solidFill>
                <a:latin typeface="Calibri"/>
              </a:rPr>
              <a:t>Why not? </a:t>
            </a:r>
            <a:r>
              <a:rPr b="1" lang="en-GB" sz="2800" spc="-1" strike="noStrike">
                <a:solidFill>
                  <a:srgbClr val="7030a0"/>
                </a:solidFill>
                <a:latin typeface="Calibri"/>
              </a:rPr>
              <a:t>– match</a:t>
            </a:r>
            <a:r>
              <a:rPr b="1" lang="en-GB" sz="60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7030a0"/>
                </a:solidFill>
                <a:latin typeface="Calibri"/>
              </a:rPr>
              <a:t>these problems with the countries (from boxes on pages 9 – 13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0920" y="1599840"/>
            <a:ext cx="29527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1/ Britai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2/ Canad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3/ Poland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4/ Chin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5/ Bulgari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348000" y="1599840"/>
            <a:ext cx="54007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85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Calibri"/>
              </a:rPr>
              <a:t>Problems with not enough water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85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Calibri"/>
              </a:rPr>
              <a:t>Bad effects on the lives of indigenous people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85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Calibri"/>
              </a:rPr>
              <a:t>Using good farming land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85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Calibri"/>
              </a:rPr>
              <a:t>Caused small earthquake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85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Calibri"/>
              </a:rPr>
              <a:t>No gas sold yet after big promise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8T11:19:22Z</dcterms:created>
  <dc:creator>Linda Ruas</dc:creator>
  <dc:description/>
  <dc:language>en-US</dc:language>
  <cp:lastModifiedBy>Linda Ruas</cp:lastModifiedBy>
  <dcterms:modified xsi:type="dcterms:W3CDTF">2013-12-08T22:35:36Z</dcterms:modified>
  <cp:revision>15</cp:revision>
  <dc:subject/>
  <dc:title>Fracking</dc:title>
</cp:coreProperties>
</file>